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5E2C4-D5FE-4B19-A76E-4A2AB4FB21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862F6-26CC-4B01-B904-88702AFAD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E462A-65E0-42A3-9016-3CD263D3A3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1EF3B-418A-42E8-B9AD-1DC1910F2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47DDE-DD04-48E0-95D8-4ADBD133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7681D-45F9-4205-841A-823CE374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1669E-B1C6-4355-B8DF-68DB5434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C4EAA-08F9-463B-A627-B9C70A52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7C655-9D4D-430E-BB68-69C33A60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3D3EE-8266-4A8F-B347-4B5FC9E6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3CD66-057F-4940-A1A7-C7FB3044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4830A-3954-4A0D-84FF-B37344189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7EF11-CC3E-456B-8C1A-8D3E76DA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F6D9C-4B70-431E-93BE-6B32F42E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5917D-8DC9-454A-A764-8DAC3594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6D3D2-5686-430A-984C-D9133304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3E551-2787-405D-8974-86CB9EEC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505E6-1654-4161-AFB0-CD41668E7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7DD12-96FA-404F-B4BF-9A0BB2CEEB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FFD8D-0588-4469-BC45-92E30A200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82184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1A346-91DD-400D-9F23-8B201B14D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3A5EA-D930-4209-8A4C-EDF947B57F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DB8A4-32E9-4003-BB50-8DA01F9F0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DACE8-B716-41AC-833E-F0ED81387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9FEE-CF61-4F5C-981F-D6822B6CA3F7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3" descr=""/>
          <p:cNvPicPr/>
          <p:nvPr/>
        </p:nvPicPr>
        <p:blipFill>
          <a:blip r:embed="rId2"/>
          <a:stretch/>
        </p:blipFill>
        <p:spPr>
          <a:xfrm>
            <a:off x="1979640" y="68400"/>
            <a:ext cx="5040360" cy="1199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1" marL="692280" indent="-347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2" marL="987480" indent="-29376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3" marL="1281240" indent="-29232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4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5F01-F5F1-4C3C-B18D-628B00A6C441}" type="slidenum">
              <a:rPr b="0" lang="sr-Latn-C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4608360"/>
            <a:ext cx="8496360" cy="126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Методе поспешивања спонтаног пријављивања нежељених дејстава лекова</a:t>
            </a:r>
            <a:br>
              <a:rPr sz="2600"/>
            </a:br>
            <a:br>
              <a:rPr sz="2800"/>
            </a:br>
            <a:br>
              <a:rPr sz="2800"/>
            </a:br>
            <a:endParaRPr b="1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0920" y="537372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cc0000"/>
                </a:solidFill>
                <a:latin typeface="Candara"/>
              </a:rPr>
              <a:t>Проф. др Марко Фолић</a:t>
            </a:r>
            <a:endParaRPr b="0" lang="en-US" sz="27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95280" y="1293840"/>
            <a:ext cx="835344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Candara"/>
              </a:rPr>
              <a:t>Д</a:t>
            </a:r>
            <a:r>
              <a:rPr b="1" lang="sr-Latn-CS" sz="2500" spc="-1" strike="noStrike">
                <a:solidFill>
                  <a:srgbClr val="000000"/>
                </a:solidFill>
                <a:latin typeface="Candara"/>
              </a:rPr>
              <a:t>ОКТОРСКE AКАДЕМСКE СТУДИЈE </a:t>
            </a:r>
            <a:br>
              <a:rPr sz="2500"/>
            </a:br>
            <a:r>
              <a:rPr b="1" lang="sr-Latn-CS" sz="2500" spc="-1" strike="noStrike">
                <a:solidFill>
                  <a:srgbClr val="000000"/>
                </a:solidFill>
                <a:latin typeface="Candara"/>
              </a:rPr>
              <a:t>Клиничка и експериментална фармакологија</a:t>
            </a:r>
            <a:r>
              <a:rPr b="0" lang="sr-Latn-CS" sz="2300" spc="-1" strike="noStrike">
                <a:solidFill>
                  <a:srgbClr val="000000"/>
                </a:solidFill>
                <a:latin typeface="Candara"/>
              </a:rPr>
              <a:t> </a:t>
            </a:r>
            <a:br>
              <a:rPr sz="4200"/>
            </a:br>
            <a:br>
              <a:rPr sz="500"/>
            </a:br>
            <a:br>
              <a:rPr sz="700"/>
            </a:br>
            <a:r>
              <a:rPr b="1" lang="en-US" sz="2100" spc="-1" strike="noStrike">
                <a:solidFill>
                  <a:srgbClr val="cc0000"/>
                </a:solidFill>
                <a:latin typeface="Candara"/>
              </a:rPr>
              <a:t>Moдул 2</a:t>
            </a:r>
            <a:r>
              <a:rPr b="1" lang="sr-CS" sz="2100" spc="-1" strike="noStrike">
                <a:solidFill>
                  <a:srgbClr val="cc0000"/>
                </a:solidFill>
                <a:latin typeface="Candara"/>
              </a:rPr>
              <a:t>: Истраживања нежељених дејстава лекова</a:t>
            </a:r>
            <a:r>
              <a:rPr b="1" lang="sr-CS" sz="2100" spc="-1" strike="noStrike">
                <a:solidFill>
                  <a:srgbClr val="000000"/>
                </a:solidFill>
                <a:latin typeface="Candara"/>
              </a:rPr>
              <a:t> </a:t>
            </a:r>
            <a:br>
              <a:rPr sz="2100"/>
            </a:br>
            <a:r>
              <a:rPr b="1" lang="sr-CS" sz="2100" spc="-1" strike="noStrike">
                <a:solidFill>
                  <a:srgbClr val="cc0000"/>
                </a:solidFill>
                <a:latin typeface="Candara"/>
              </a:rPr>
              <a:t>Предавањ</a:t>
            </a:r>
            <a:r>
              <a:rPr b="1" lang="en-US" sz="2100" spc="-1" strike="noStrike">
                <a:solidFill>
                  <a:srgbClr val="cc0000"/>
                </a:solidFill>
                <a:latin typeface="Candara"/>
              </a:rPr>
              <a:t>e</a:t>
            </a:r>
            <a:r>
              <a:rPr b="1" lang="sr-CS" sz="2100" spc="-1" strike="noStrike">
                <a:solidFill>
                  <a:srgbClr val="cc0000"/>
                </a:solidFill>
                <a:latin typeface="Candara"/>
              </a:rPr>
              <a:t> </a:t>
            </a:r>
            <a:r>
              <a:rPr b="1" lang="sr-Latn-CS" sz="2100" spc="-1" strike="noStrike">
                <a:solidFill>
                  <a:srgbClr val="cc0000"/>
                </a:solidFill>
                <a:latin typeface="Candara"/>
              </a:rPr>
              <a:t>3</a:t>
            </a:r>
            <a:r>
              <a:rPr b="1" lang="en-US" sz="2100" spc="-1" strike="noStrike">
                <a:solidFill>
                  <a:srgbClr val="cc0000"/>
                </a:solidFill>
                <a:latin typeface="Candara"/>
              </a:rPr>
              <a:t>б</a:t>
            </a:r>
            <a:endParaRPr b="0" lang="en-US" sz="21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57268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Mетоде поспешивања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 спонтаног пријављивања НДЛ 1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8400" y="1628640"/>
            <a:ext cx="839124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ndara"/>
              </a:rPr>
              <a:t>Детерминација истих у пракси може се сматрати веома компле</a:t>
            </a:r>
            <a:r>
              <a:rPr b="0" i="1" lang="sr-RS" sz="2400" spc="-1" strike="noStrike">
                <a:solidFill>
                  <a:srgbClr val="000000"/>
                </a:solidFill>
                <a:latin typeface="Candara"/>
              </a:rPr>
              <a:t>к</a:t>
            </a:r>
            <a:r>
              <a:rPr b="0" i="1" lang="en-US" sz="2400" spc="-1" strike="noStrike">
                <a:solidFill>
                  <a:srgbClr val="000000"/>
                </a:solidFill>
                <a:latin typeface="Candara"/>
              </a:rPr>
              <a:t>сном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Развој професионалне и моралне одговорности у домену фармаковигиланц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напређење познавања релевантних (фармаколошких) информација у области потенцијалних НДЛ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Адекватна едукација на пољу значаја пријаве НДЛ у циљу побољшања безбедносног профила лека (креирање сигнала, алерта...), али и технике пријаве НДЛ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азв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ј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култур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е”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пријављивањ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Mетоде поспешивања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ndara"/>
              </a:rPr>
              <a:t>спонтаног пријављивања НДЛ 2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6560" y="1628280"/>
            <a:ext cx="82821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Доступност образца за пријаву нежељеног дејства лека односно могућности “on line” пријаве или путем електронске поште -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техничка подршка (информациони системи, мреже…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Компјутерско генерисање алерт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Примена релевантних упитника; интервјуисање пацијенат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ећање броја клиничких фармаколога и фармацеут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ndara"/>
              </a:rPr>
              <a:t>Ун</a:t>
            </a:r>
            <a:r>
              <a:rPr b="0" i="1" lang="sr-RS" sz="2400" spc="-1" strike="noStrike">
                <a:solidFill>
                  <a:srgbClr val="000000"/>
                </a:solidFill>
                <a:latin typeface="Candara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Candara"/>
              </a:rPr>
              <a:t>пређење квалитета прикупљања података о потенцијалном НДЛ-у</a:t>
            </a:r>
            <a:r>
              <a:rPr b="0" i="1" lang="sr-RS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5280" y="1700280"/>
            <a:ext cx="8362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Спонтано пријављивање подразумева добровољно пријављивање нежељен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реакциј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на лек у промету, испољене у току поступка медикациј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Нежељене реакције на лекове се пријављују Националном центру за фармаковигиланцу (у оквиру Агенциј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за лекове и медицинска средства Србије)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Пријављује се свака нежељена реакција или сумња на њу за лек који је мање од 5 година на тржишту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Након 5 година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-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пријављују се само неочекиване нежељене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реакциј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04920" y="260280"/>
            <a:ext cx="856908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Нежељена дејства лекова 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понтано пријављивање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0456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1440" indent="-36360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У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клиничка испитивања укључен је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граничен број одабраних пацијената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, а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услови примене лека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нису идентични онима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у уобичајеној клиничкој 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пракси</a:t>
            </a:r>
            <a:r>
              <a:rPr b="0" lang="sr-Latn-RS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541440" indent="-36360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Постмаркетиншко праћење безбедности лека је од посебног значаја за уочавање озбиљних, мање учесталих нежељених реакција, као и нежељених реакција које се испољавају тек након дуготрајне примене лека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или су одложен</a:t>
            </a: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ог типа</a:t>
            </a:r>
            <a:r>
              <a:rPr b="0" lang="sr-Latn-RS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541440" indent="-363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95360"/>
            <a:ext cx="8763120" cy="79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ndara"/>
              </a:rPr>
              <a:t>Зашто пријављивати нежељен</a:t>
            </a:r>
            <a:r>
              <a:rPr b="1" lang="sr-Latn-CS" sz="28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Candara"/>
              </a:rPr>
              <a:t> реакциј</a:t>
            </a:r>
            <a:r>
              <a:rPr b="1" lang="sr-Latn-CS" sz="28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Candara"/>
              </a:rPr>
              <a:t> на лекове ?</a:t>
            </a:r>
            <a:endParaRPr b="1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9152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сновни циљеви спонтаног пријављивања нежељених реакција на лекове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43680" indent="-3232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Рано откривање непознатих информација о безбедности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лека (детекција сигнала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43680" indent="-3232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тицај на безбедносни профил лека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(Сажетак карактеристика лека и 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Упутство за пацијента)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43680" indent="-3232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дентификација и квантификација фактора ризик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43680" indent="-3232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пречавање непотребних тегоба пацијент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43680" indent="-3232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Смањење морбидитета и морталитет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643680" indent="-32328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Економски (редукција трошкова лечења)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Предности</a:t>
            </a:r>
            <a:endParaRPr b="1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Праћење велике популације пацијенат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Праћење великог броја леков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Дугорочна перспектив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Могућност анализе пацијенат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иска цена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еинтервенцијска метод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458640"/>
            <a:ext cx="821844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Недостаци</a:t>
            </a:r>
            <a:endParaRPr b="1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91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тешкоће при откривању нежељених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ејстава леков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717480" indent="-3524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дложене реакциј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717480" indent="-3524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Candara"/>
              </a:rPr>
              <a:t>еакције са претходном историјом болест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lvl="1" marL="717480" indent="-35244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нциденциј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60360" indent="-36036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познат број пацијената изложених леку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60360" indent="-36036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Предрасуд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marL="360360" indent="-360360">
              <a:spcBef>
                <a:spcPts val="601"/>
              </a:spcBef>
              <a:buClr>
                <a:srgbClr val="000000"/>
              </a:buClr>
              <a:buFont typeface="Candara"/>
              <a:buChar char="•"/>
              <a:tabLst>
                <a:tab algn="l" pos="982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ndara"/>
              </a:rPr>
              <a:t>Недовољна упознатост са процедуром пријаве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ndara"/>
              </a:rPr>
              <a:t>Разлози недовољног пријављивања</a:t>
            </a:r>
            <a:endParaRPr b="1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2368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Слаба повезаност са произвођачима леков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Недовољан број клиничких фармаколога и фармацеут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Недостатак мотивације и обавезе здравственог радника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према пријављивању 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Квалитет пријав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Недостатак адекватних информација о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нежељеним реакцијама </a:t>
            </a:r>
            <a:r>
              <a:rPr b="0" lang="en-US" sz="2500" spc="-1" strike="noStrike">
                <a:solidFill>
                  <a:srgbClr val="000000"/>
                </a:solidFill>
                <a:latin typeface="Candara"/>
              </a:rPr>
              <a:t>на лекове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Технички проблеми (информациони систем, мреже…)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Поступак након пријаве </a:t>
            </a:r>
            <a:br>
              <a:rPr sz="3000"/>
            </a:br>
            <a:r>
              <a:rPr b="1" lang="sr-CS" sz="3000" spc="-1" strike="noStrike">
                <a:solidFill>
                  <a:srgbClr val="000000"/>
                </a:solidFill>
                <a:latin typeface="Candara"/>
              </a:rPr>
              <a:t>нежељеног дејства Агенцији</a:t>
            </a:r>
            <a:endParaRPr b="1" lang="en-US" sz="3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Стручњаци Националног центра за нежељена дејства лекова Агенциј</a:t>
            </a:r>
            <a:r>
              <a:rPr b="0" lang="sr-Latn-CS" sz="2500" spc="-1" strike="noStrike">
                <a:solidFill>
                  <a:srgbClr val="000000"/>
                </a:solidFill>
                <a:latin typeface="Candara"/>
              </a:rPr>
              <a:t>e</a:t>
            </a: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 за лекове и медицинска средства Србије процењују каузалност пријављеног нежељеног догађаја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О својим закључцима у писаној форми обавештавају здравственог радника који је реакцију пријавио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  <a:p>
            <a:pPr marL="365040" indent="-365040">
              <a:spcBef>
                <a:spcPts val="624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ndara"/>
              </a:rPr>
              <a:t>Пријава се уноси у базу нежељених реакција Светске здравствене организације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22400"/>
            <a:ext cx="853416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Candara"/>
              </a:rPr>
              <a:t>Агенција за лекове и медицинска средства Србије</a:t>
            </a:r>
            <a:endParaRPr b="1" lang="en-US" sz="29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3818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15000"/>
              </a:lnSpc>
              <a:spcBef>
                <a:spcPts val="575"/>
              </a:spcBef>
              <a:buClr>
                <a:srgbClr val="000000"/>
              </a:buClr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П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ријављивање нежељених реакција на лекове</a:t>
            </a:r>
            <a:r>
              <a:rPr b="0" lang="sr-CS" sz="27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0" lang="sr-Latn-CS" sz="27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Candara"/>
              </a:rPr>
              <a:t>http://www.alims.gov.rs/ciril/farmakovigilanca/prijava-nezeljene-reakcije/</a:t>
            </a: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  <a:p>
            <a:pPr marL="365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1:20:01Z</dcterms:created>
  <dc:creator>Marko</dc:creator>
  <dc:description/>
  <dc:language>en-US</dc:language>
  <cp:lastModifiedBy>Marko</cp:lastModifiedBy>
  <dcterms:modified xsi:type="dcterms:W3CDTF">2020-04-07T11:53:17Z</dcterms:modified>
  <cp:revision>663</cp:revision>
  <dc:subject/>
  <dc:title>Klinicki farmakolog </dc:title>
</cp:coreProperties>
</file>