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Green%20form_PEM%20study.jpg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468360" y="1413000"/>
            <a:ext cx="82072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окторске 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мске студ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Клиничка и експериментална фармакологија 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Модул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: И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раживања нежељених дејстава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684360" y="3213000"/>
            <a:ext cx="77724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тудије типа </a:t>
            </a:r>
            <a:r>
              <a:rPr b="0" i="1" lang="sr-CS" sz="4400" spc="-1" strike="noStrike">
                <a:solidFill>
                  <a:srgbClr val="000000"/>
                </a:solidFill>
                <a:latin typeface="Comic Sans MS"/>
              </a:rPr>
              <a:t>prescription event monitoring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оц. др Срђан Стефан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данас, у УК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проведено је више од 100 РЕМ студија са различитим врстама лекова, а доста студија је тренутно у т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питивани су бројни важни безбедоносни проблеми, попут озбиљних КВС нежељених дејстава после употребе силденафила, венског тромбоемболизма узрокованог оралним контрацептивима, озбиљних кожних реакција на примену коксиба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ву врсту студија препоручују ЕУ водичи за регулаторна тела за постмаркетиншко праћење безбедности ле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- метод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интерве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јс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опсервациона), проспективна, аналитичка кохортна студија у примарној здравственој зашт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на група, најма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10.000 испитаника различитих карактеристика, којима је прописан нови лек* (прва, "почетна" кохорт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10.000 пацијената: "премошћавање раскорака" између премаркетиншких РК студија и спонтаног пријављивања у контексту осетљивости за детекцију ретких/веома ретких 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нема укључујућих и искључујућих критер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1" i="1" lang="sr-CS" sz="2000" spc="-1" strike="noStrike">
                <a:solidFill>
                  <a:srgbClr val="000000"/>
                </a:solidFill>
                <a:latin typeface="Comic Sans MS"/>
              </a:rPr>
              <a:t>Нови лек</a:t>
            </a: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: лек који је по први пут у промету или лек који је већ у употреби, али са новом индикацијом или начином приме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метод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купљање података и опсервација започињу одмах по пуштању лека у промет и прописивања првом пације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орак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одлучује да ли ће пратити одређени лек након што је регистро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403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ови од интереса: од којих се очекује да буду доста прописивани од стране лекара опште пра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орак (подаци о изложености леку)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дентификује све пацијенте којима је прописан лек од интереса и лекаре ОП који су га прописали на основу електронских копија рецепата које добија из базе Националне здравствене службе (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NHS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PS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метод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III корак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(опсервација исход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: 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н 3-12 месеци (обично 6 м.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аљ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једноставан упитни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"green form"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лекару ОП за сваког пацијента коме је прописан лек, са следећим садржај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л и старост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дикација за коју је лек прописан, дозни режим и ефикас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четак и престанак примене лека, разлог због којег је примена лека прекинута и врсту (назив) лека којим је замењ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omic Sans MS"/>
              </a:rPr>
              <a:t>сваки значајан нежељени догађај забележен у здравственом картону пацијента који се десио у току одређеног периода (најчешће 6-12 месеци) за време примене лека и након обуставе 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метод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лекара ОП у упитнику се не тражи да процени каузалност, али треба да назначи сумњу на НД и да ли је нежељени догађај "спонтано пријављен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аље с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Green for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"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 болеснику прилагођен сваком леку засебно, а највише 4 упитника месечно по лека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ари нису додатно плаћени за попуњавање упи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IV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орак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ар враћа попуњен упитник, прикупљени подаци се уносе у компјутер и даље обрађ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метод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V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орак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додатно праћење (упитниц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жељени догађаји од 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ок и исход сваке трудноће у току примене лека или до 3 месеца након његове обуст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гуће озбиљне НР, укључујући и смртни ис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ваки смртни исход непознатог уз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траживање се спроводи у складу са важећим етичким принципима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CIOMS/WHO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заштита поверљивости информација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ис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м изложености пацијената новом ле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циденца нежељених догађа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варање и даља анализа (квалитативна и квантитативна) безбедоносних сигнала, посебно када су у питању ретк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ављање хипотеза о безбедности лека које се могу тестирати у посебно дизајнираним истраживањима (студије случај-контрола, кохортне студије са контролном групом, рандомизиране контролисане студије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ис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рење инциденце нежељеног догађа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опа или “густина инциденце“ за посматрани временски период (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Incidenc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density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lang="sr-Latn-CS" sz="2400" spc="-1" strike="noStrike" baseline="-1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N / D) *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 -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број забележених нежељених догађа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у времену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 –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број "пацијент-месеци" у времену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имене лека, тј. број пацијената изложених леку у одређеном периоду: нпр.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у првих месец дана)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2-6 месеци)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после 6 месеци терапије), укупно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+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+D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i="1" lang="sr-Latn-CS" sz="2400" spc="-1" strike="noStrike" baseline="-1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CS" sz="2400" spc="-1" strike="noStrike" baseline="-1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казује колико брзо се јавља одређени нежељени догађај по отпочињању употреб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ис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435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ређење "разлога за прекид терапије" и "густине инциденце" нежељеног догађа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нгирају се нежељени догађаји према учесталости прекида терапије, односно према вредности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ID</a:t>
            </a:r>
            <a:r>
              <a:rPr b="0" i="1" lang="sr-Latn-CS" sz="2400" spc="-1" strike="noStrike" baseline="-1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а се анализира подудар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лазна информација за генерисање "сигнала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же се квантификовати повезаност и испитати њен клинички значај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озбиљност-тежина нежељеног догађаја, могућност превенције, процена у контексту показане ефикасности ле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6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студије – исхо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јачање "сигнала": упоређивањем релативног ризика (коригованог за пол и старост) између новог лека и упоредивог лека који је већ испитиван у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туд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ки од примера "сигнала" генерисаних у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тудијама, који су евалуирани и признати као 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штећење једњака / алендр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оштећење вида / вигабат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инекомастија / финасте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халуцинације / трама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ГИТ неподношљивост / акарбоза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вигилан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тклиничке студије безбедности (токсиколошка испити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маркетиншке клиничке студије (пре него што лек добије дозволу за стављање у пром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стмаркетиншки период (после регистрације лека -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фаза клиничког испити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обре стране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довољен је један од основних принципа фармаковигиланце: открити НД лека што је пре могуће после пуштања у пр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"Почетна" кохор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ткривање НД која се јављају брзо по отпочињању употреб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тенцијане "збуњујуће" варијабле могу  се мерити пре почетка примене лека =&gt; корекција резултата у статистичкој анализ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ки узорак пацијената, праћење на нивоу целе земљ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обре стране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Хетрогени узорак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"real world") -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азличити пацијенти према социо-демографским и клиничким карактеристик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-интервентна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сервациона) студија =&gt; мања "склоност" истраживача (не утиче се на одлуку лекара о избору лека или пацијен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Једноставан упитник =&gt; олакшано прикупљање података (поспешује одговор лек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обре стране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дности у односу на систем спонтаног пријављивања: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ицијатива, акција, а не "подсећање" клиничара на значај праћења НД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леже се сви нежељени догађаји, а не само они за које постоји сумња да су изазвани леком =&gt; смањује се могућност да лекар "пропусти" неку важну Н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же се утврдити обим изложености пацијената новом леку и инциденца нежељених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методологија подстиче спонтано пријављ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обре стране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50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истематско, по потреби продужено и дуготрајно праћење пацијената/лек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ализа каузалности НД, надзор над озбиљним нежељеним догађајима и применом лекова код ризичних пацијената (деца, старије особе и др.), истраживање узрока смртних ис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ходи трудноћа током којих је употребљаван лек од интереса, праћење других одложених НР (са дужом латенц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рење прописивања лекова, упоређивање безбедоносног профила лекова из исте фармаколошк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гућност проучавања јатроген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достаци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 постоји контролна гру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презентативност кохорте (склоности лекара ОП у прописивању: "каналисање" или "укључивање/пребацивање") =&gt; дискутабилна генерализација резулт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дговор (попуњен и враћен упитник) се добија у око 60% случајева: потенцијалне склоности лекара ОП (разлике међу пацијентим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циденца се може утврдити само за забележене Н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достаци 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сервацијом није обухваћена интрахоспитална прва примена/обустава новог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ма доказа да је комплијанса задовољавајућа (поузданост добијених налаза??? =&gt; РКТ студ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страживањем нису обухваћени 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OT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начајни трошкови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~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1.000.000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£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годиш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Модификоване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студ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дградња, унапређење стандардне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методологије са циљем да се боље, прецизније дефинише безбедоносни профил новог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619280" y="3573360"/>
            <a:ext cx="6985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едности (снага) стандардних </a:t>
            </a: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РЕМ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туд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општа безбедност лека, откривање неочекиваних Н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1619280" y="5013360"/>
            <a:ext cx="698508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таљније, циљано истраживање специфичн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ради комплетније процене ризика повезан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а применом лека у свакодневној клиничкој пракси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4716360" y="4510080"/>
            <a:ext cx="79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539640" y="3573360"/>
            <a:ext cx="914400" cy="25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50920" y="6237360"/>
            <a:ext cx="87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* Покушај да се превазиђу недостаци конвенционалних РЕМ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32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удије - специфични истраживачки пробл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о 120 студија је завршено, многе су у т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аћење претходно препознатих озбиљних нежељених догађаја, који могу довести до реаговања регулаторних тела (измене дозволе за лек, повлачење из проме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клађеност примене новог лека са условима наведеним у дозволи (допуни дозволе) за лек и препорукама терапијских водича: индикације, дозирање, дужина терапије, контраиндикације, мере опреза ("погодна популација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цена комплијансе болесника и злоупотребе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поређивање учесталости нежељених догађаја пре и после употребе новог лека, и др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Методологија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оширен дизајн стандарне </a:t>
            </a:r>
            <a:r>
              <a:rPr b="1" i="1" lang="sr-CS" sz="28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студ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ста врста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чина узорка одређује у зависности од специфичног истраживачког пи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дентичан поступак прикупљања података, с тим што се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omic Sans MS"/>
              </a:rPr>
              <a:t>у упитнику траже додатни пода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ари ОП добијају извесну новчану надокнаду за попуњавање детаљнијег упитни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Методологија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датни подаци који се могу захтевати у упитнику 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туд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декс телесне масе, активно пушење, други општи здравствени под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говорни клиничар и установа у којој је започета примена лека код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епен тежине болести због које је прописан лек и постојаност ("трајање") индикације: резултати специфичних дијагностичких процедура примењених у сврху процене тежине болести пре и у току примене лека који се пр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ремаркетиншке клиничке студ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218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граничен узорак (број пацијената, њихове демографске карактеристике, удружене болести, истовремена употреба др.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лативно кратко излагање новом леку (НД која се јављају после дуготрајне примене или одложена НД?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главном се откривају честа и дозно-зависна нежељена дејства (тип "А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ужају више података о ефикасности, него о безбедности примен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Методологија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i="1" lang="sr-Latn-CS" sz="40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i="1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датни подаци који се могу захтевати у упитнику 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студ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жељени догађаји у периоду пре него што је започета употреба лека од интерес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дружене болести пацијента у тренутку када је започета примена лека који се п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медикација у дефинисаном периоду пре почетка примена лека од интереса и у току његове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државање пацијента прописаној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зрок смрти (ако је пацијент умро)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дности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у односу на стандардне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аћење и безбедности и здравственог исхода пацијената којима је прописан нови л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ћи проценат одговора лекара на упи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таљније информације о пацијенту и терапији =&gt; смањење склоности у истраживању =&gt;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узданија генерализација резултата, квалитетнија (прецизнија) процена коришћења новог лека и његове безбедности у пракси ("стварном свету") – комплијанса, корекција мера исхода за утицај више "збуњујућих" варијаб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дности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у односу на стандардне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ма контролне групе, али је могуће израчунавање величине ефекта (релативног ризика) за разлике у учесталости нежељеног догађаја између појединих подгрупа унутар кохорте или упоређивањем са резултатима других студ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ћи обим анализа добијених података: поређење исхода "пре и после" (упарена мерења), анализе серије случајева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гућност прецизнијег утврђивања значајних фактора ризика за настанак НД (усађене студије случај-контро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едности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у односу на стандардне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РЕМ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М-Р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у посебно применљиве 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валуацији безбедности лека у посебним подгрупама пацијената (ризични пацијенти, пацијенти код којих је примена новог лека започета у болници или пацијенти којима је промењена терапија увођењем новог л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валуацији безбедности након значајних промена у "животном циклусу" лека (измене/допуне дозволе за лек, нови фармацеутски обл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рисно средство за израду плана управљања ризиком (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Risk Management Pla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ме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ктуел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Comic Sans MS"/>
              </a:rPr>
              <a:t>М-РЕМ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тудија које се спроводе под окриљем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ксенатид (агониста ГЛП-1 рецепто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спензија са продуженим ослобађањем активне супстанце за поткож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датна терапија Д.М. тип 2 (у комбинацији са другим антидијабетици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улаглутид (дугоделујући агониста ГЛП-1 рецептора: ГЛП-1  *7-37*+ Fc IgG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тидијабетик, Д.М. тип 2, самостално или у комбинацији са другим лековима, с.к.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ном у недељу дана (монотерапија) или једном у две недеље (комбинована терап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pecialist Cohort Event Monitor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C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проводе се од 2009. год., у складу са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бухватају ниво секундарне здравствене заштите (болнице и др. стационарне установ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ебне болести и популације пацијената од интереса (коморбидитети, комедикациј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вазилажење проблема “survivor bi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римери актуелних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SCE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студија под окриљем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DSR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ASIS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тудија, кветиапин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vs. кветиапин (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(очекује се публиковање резулта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OBSER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студија са асенап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OSE  и RO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студијe са ривароксабаном (у току),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Постмаркетиншки пери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тно већи, свеобухватни узорак и дуже излагање леку у односу на пре-М студ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вантификација честих НД, откривање ретких и одложених НД и утврђивање токсичности после дуже (хроничне)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обична, непредвидива НД (тип "Б"), која су ређа, али опаснија од типа "А", углавном се откривају у ов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говарајућа процена свеукупне безбедности примене лека у свакодневној клиничкој пракси (важне информације - у првих неколико година по увођењу л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раћење нежељених дејстава у постмаркетиншком пери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понтано (добровољно) пријављивање сумњ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на нажељено дејство лек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тране здравствених радника или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стрегистрационе клиничке/епидемиолошке студ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укључујући и студије типа </a:t>
            </a:r>
            <a:r>
              <a:rPr b="1" i="1" lang="sr-Latn-CS" sz="2400" spc="-1" strike="noStrike">
                <a:solidFill>
                  <a:srgbClr val="000000"/>
                </a:solidFill>
                <a:latin typeface="Comic Sans MS"/>
              </a:rPr>
              <a:t>Prescription event monitoring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ериодични извештај о безбедности ле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тзв.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SUR)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обавеза носиоца дозволе за л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 основу спонтаних пријава, резултата студија, приказа случајева и др. изво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понтано пријављивање суспектних нежељених реакција на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већи значај за откривање ретких и неочекиваних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ноставан поступак, мали трошкови, успостављен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снова за генерисање безбедоносних сигнала и хипотеза за даља испит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 заборавити: довољна је само сумњ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Спонтано пријављивање суспектних нежељених реакција на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а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довољно пријављивање, посебно када су у питању одложене или нејасне реакциј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менљива динамика пријављивања различитих нежељених реакција након увођења лека у пр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комплетно извештавање (мало података) =&gt; проблеми у процени кауза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ије могуће утврдити инциденцу НД,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Постмаркетиншке студије нежељених дејстава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рвентне и не-интервентне (фармакоепидемиолошке) студ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стирање хипотеза везаних за нејасноће (контроверзе) у вези безбедносног профил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декватнија процена фактора ризика за настанак нежељених де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тивно, интензивно праћење нежељених реакција у свакодневној клиничкој пракси,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rescription event monitoring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3600" spc="-1" strike="noStrike">
                <a:solidFill>
                  <a:srgbClr val="000000"/>
                </a:solidFill>
                <a:latin typeface="Comic Sans MS"/>
              </a:rPr>
              <a:t>PEM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туд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динствени метод активног континуираног и систематског праћења НР на лек одмах након његовог увођења у свакодневну клиничку прак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проводе се у УК од 1984. год., у организацији независне академске институције -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rug Safety Research Unit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DSRU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аћење на националном нивоу помоћу прецизне базе података о прописивању лекова и свим пријављеним нежељеним догађај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лична методологија: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Intensive Medicines Monitoring Programme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Новом Зеланду, пилот студије у Јапан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нд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 неким афричким земљама, 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Srdjan Stefanovic</cp:lastModifiedBy>
  <dcterms:modified xsi:type="dcterms:W3CDTF">2020-03-31T09:49:20Z</dcterms:modified>
  <cp:revision>254</cp:revision>
  <dc:subject/>
  <dc:title>Slide 1</dc:title>
</cp:coreProperties>
</file>